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28.jpeg" ContentType="image/jpeg"/>
  <Override PartName="/ppt/media/image31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media/image33.wmf" ContentType="image/x-wmf"/>
  <Override PartName="/ppt/media/image29.jpeg" ContentType="image/jpeg"/>
  <Override PartName="/ppt/media/image13.jpeg" ContentType="image/jpeg"/>
  <Override PartName="/ppt/media/image16.jpeg" ContentType="image/jpeg"/>
  <Override PartName="/ppt/media/image35.wmf" ContentType="image/x-wmf"/>
  <Override PartName="/ppt/media/image30.jpeg" ContentType="image/jpeg"/>
  <Override PartName="/ppt/media/image37.wmf" ContentType="image/x-wmf"/>
  <Override PartName="/ppt/media/image34.wmf" ContentType="image/x-wmf"/>
  <Override PartName="/ppt/media/image36.wmf" ContentType="image/x-wmf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871A-7F1D-44EA-AD55-8DE5E4372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odel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. Use Prof. Juran as guinea pig (ID 3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b. Jacky – ID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how Model 1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Review Model 1 Poi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xplain solver table constrain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ew non-solver solution using Data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. Show data tabl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Model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a. Purpose of Model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b. Structure  of Model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c. Solver Unable to solve model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sion2 of model 1 – dat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y &amp; Valia – both married and having an affair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 &amp; Jen – both significant others..having an aff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a&amp;rodrigo – both  marr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e has Adam, but Adam wants Debbie..Asli want Guillaume, but so do two other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1 – data table – prin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2535-0542-4111-BB28-082AE5E9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49CD-34D3-424A-89F2-6B25C149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6E32E-8BB9-40CD-9A28-AB63E0F1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FF47-501A-4049-8DF0-44FF1201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8BB4-5481-40EC-8615-CB0E47F1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DDB5-FEB3-497E-979A-8CA8ACA1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A350-85E4-48C2-88D6-6E821E2E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08CD-1601-4D09-A890-AC3CECBF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63B9-D12D-4170-A85C-6538E849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5DD0-9888-4EA8-88CF-E9DDCB71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2705-7435-4A65-83A6-7986E0E7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4C20-A455-45AF-B2B0-F8210509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5084-4B73-4FFB-AD07-E0FF73DF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AC3C-9D50-4B0B-8B17-DCFF9D01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4E53-63A6-4174-AAB0-6FFE859B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E6AF-98AD-4E78-95AE-06D60D1B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5540-F22A-43C8-B095-8D3280DB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9950-049B-4BAF-AC52-ACFCA369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C45A-497D-42B5-AA0F-50C73630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888A-8923-4E86-BF28-9F1C3B9A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DA5E-7F7F-40B4-8F62-669CD86C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E818-0250-4B55-80E1-7C50142D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2070-D929-46FF-8280-6212665A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7ECAD-D055-4F13-85C8-F78D6EED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8DBE-10C6-4C77-86A0-63DD3451F7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D8FB-D426-4E2C-A73E-9527E7F7AF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image" Target="../media/image23.jpeg"/><Relationship Id="rId21" Type="http://schemas.openxmlformats.org/officeDocument/2006/relationships/image" Target="../media/image24.jpeg"/><Relationship Id="rId22" Type="http://schemas.openxmlformats.org/officeDocument/2006/relationships/image" Target="../media/image25.jpeg"/><Relationship Id="rId23" Type="http://schemas.openxmlformats.org/officeDocument/2006/relationships/image" Target="../media/image26.jpeg"/><Relationship Id="rId24" Type="http://schemas.openxmlformats.org/officeDocument/2006/relationships/image" Target="../media/image27.jpeg"/><Relationship Id="rId25" Type="http://schemas.openxmlformats.org/officeDocument/2006/relationships/image" Target="../media/image28.jpeg"/><Relationship Id="rId2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9.jpeg"/><Relationship Id="rId3" Type="http://schemas.openxmlformats.org/officeDocument/2006/relationships/image" Target="../media/image7.jpeg"/><Relationship Id="rId4" Type="http://schemas.openxmlformats.org/officeDocument/2006/relationships/image" Target="../media/image22.jpeg"/><Relationship Id="rId5" Type="http://schemas.openxmlformats.org/officeDocument/2006/relationships/image" Target="../media/image20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52578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  <a:ea typeface="굴림"/>
              </a:rPr>
              <a:t>The Match Making Team…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dfdef6"/>
                </a:solidFill>
                <a:latin typeface="Arial"/>
                <a:ea typeface="굴림"/>
              </a:rPr>
              <a:t>FIND YOUR SOLE/SOUL MATE?!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McK Date"/>
          <p:cNvSpPr/>
          <p:nvPr/>
        </p:nvSpPr>
        <p:spPr>
          <a:xfrm>
            <a:off x="222120" y="5981760"/>
            <a:ext cx="19447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Times New Roman"/>
                <a:ea typeface="-윤명조140"/>
              </a:rPr>
              <a:t>Shelley Poniachek, Yael Rothschild, Aitan Weinbe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Times New Roman"/>
                <a:ea typeface="-윤명조140"/>
              </a:rPr>
              <a:t>April 20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2073240" y="2448000"/>
            <a:ext cx="1190520" cy="16160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1303200" y="2376360"/>
            <a:ext cx="1182960" cy="16081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2241720" y="3110040"/>
            <a:ext cx="1190520" cy="16160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7734240" y="4626000"/>
            <a:ext cx="1181160" cy="16081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5"/>
          <a:stretch/>
        </p:blipFill>
        <p:spPr>
          <a:xfrm>
            <a:off x="6765840" y="566640"/>
            <a:ext cx="1173240" cy="16020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6"/>
          <a:stretch/>
        </p:blipFill>
        <p:spPr>
          <a:xfrm>
            <a:off x="873000" y="3924360"/>
            <a:ext cx="1185840" cy="161604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7"/>
          <a:stretch/>
        </p:blipFill>
        <p:spPr>
          <a:xfrm>
            <a:off x="3181320" y="2459160"/>
            <a:ext cx="1184400" cy="16002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8"/>
          <a:stretch/>
        </p:blipFill>
        <p:spPr>
          <a:xfrm>
            <a:off x="222120" y="2541600"/>
            <a:ext cx="1182960" cy="16081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9"/>
          <a:stretch/>
        </p:blipFill>
        <p:spPr>
          <a:xfrm>
            <a:off x="2921040" y="3911760"/>
            <a:ext cx="1190520" cy="16160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10"/>
          <a:stretch/>
        </p:blipFill>
        <p:spPr>
          <a:xfrm>
            <a:off x="6532560" y="4935600"/>
            <a:ext cx="1185840" cy="16160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11"/>
          <a:stretch/>
        </p:blipFill>
        <p:spPr>
          <a:xfrm>
            <a:off x="442800" y="3467160"/>
            <a:ext cx="1189080" cy="16174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12"/>
          <a:stretch/>
        </p:blipFill>
        <p:spPr>
          <a:xfrm>
            <a:off x="1760400" y="4241880"/>
            <a:ext cx="1189080" cy="16174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13"/>
          <a:stretch/>
        </p:blipFill>
        <p:spPr>
          <a:xfrm>
            <a:off x="5907240" y="1660680"/>
            <a:ext cx="1180800" cy="16063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14"/>
          <a:stretch/>
        </p:blipFill>
        <p:spPr>
          <a:xfrm>
            <a:off x="3129120" y="4629240"/>
            <a:ext cx="1180800" cy="16081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5"/>
          <a:stretch/>
        </p:blipFill>
        <p:spPr>
          <a:xfrm>
            <a:off x="3962520" y="3219480"/>
            <a:ext cx="1190520" cy="16160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6"/>
          <a:stretch/>
        </p:blipFill>
        <p:spPr>
          <a:xfrm>
            <a:off x="4419720" y="4770360"/>
            <a:ext cx="1189080" cy="16160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17"/>
          <a:stretch/>
        </p:blipFill>
        <p:spPr>
          <a:xfrm>
            <a:off x="5072040" y="3909960"/>
            <a:ext cx="1177920" cy="16081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18"/>
          <a:stretch/>
        </p:blipFill>
        <p:spPr>
          <a:xfrm>
            <a:off x="4562640" y="2639880"/>
            <a:ext cx="1177920" cy="16081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9"/>
          <a:stretch/>
        </p:blipFill>
        <p:spPr>
          <a:xfrm>
            <a:off x="5802480" y="4672080"/>
            <a:ext cx="1190520" cy="16160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0"/>
          <a:stretch/>
        </p:blipFill>
        <p:spPr>
          <a:xfrm>
            <a:off x="7184880" y="3649680"/>
            <a:ext cx="1189080" cy="161604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1"/>
          <a:stretch/>
        </p:blipFill>
        <p:spPr>
          <a:xfrm>
            <a:off x="6388200" y="3387600"/>
            <a:ext cx="1177920" cy="16081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2"/>
          <a:stretch/>
        </p:blipFill>
        <p:spPr>
          <a:xfrm>
            <a:off x="5502240" y="2944800"/>
            <a:ext cx="1114560" cy="15969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3"/>
          <a:stretch/>
        </p:blipFill>
        <p:spPr>
          <a:xfrm>
            <a:off x="7728120" y="2709720"/>
            <a:ext cx="1180800" cy="16066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4"/>
          <a:stretch/>
        </p:blipFill>
        <p:spPr>
          <a:xfrm>
            <a:off x="6961320" y="1630440"/>
            <a:ext cx="1145880" cy="16383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5"/>
          <a:stretch/>
        </p:blipFill>
        <p:spPr>
          <a:xfrm>
            <a:off x="7667640" y="1174680"/>
            <a:ext cx="118584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e found the reason for the 9am late arrival …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595440" y="1600200"/>
          <a:ext cx="3760560" cy="219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600200"/>
                    <a:ext cx="376056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595440" y="3943440"/>
          <a:ext cx="3760560" cy="2190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440" y="3943440"/>
                    <a:ext cx="376056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4786200" y="3943440"/>
          <a:ext cx="3760920" cy="2190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6200" y="3943440"/>
                    <a:ext cx="376092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"/>
          <p:cNvSpPr/>
          <p:nvPr/>
        </p:nvSpPr>
        <p:spPr>
          <a:xfrm>
            <a:off x="4952880" y="1676520"/>
            <a:ext cx="3657600" cy="1828800"/>
          </a:xfrm>
          <a:prstGeom prst="cloudCallout">
            <a:avLst>
              <a:gd name="adj1" fmla="val -101648"/>
              <a:gd name="adj2" fmla="val 132291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0% of the 9am class students claim that they are a “night person”… solver found a solution.. most constrains were satisfied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733920" y="5943600"/>
            <a:ext cx="1371600" cy="533520"/>
          </a:xfrm>
          <a:prstGeom prst="wedgeRectCallout">
            <a:avLst>
              <a:gd name="adj1" fmla="val 137268"/>
              <a:gd name="adj2" fmla="val -7351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yle consultants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72% are looking for someone similar!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4724280" y="4038480"/>
          <a:ext cx="3760920" cy="21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038480"/>
                    <a:ext cx="37609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609480" y="4038480"/>
          <a:ext cx="3760920" cy="2190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37609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595440" y="1600200"/>
          <a:ext cx="3760560" cy="2190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440" y="1600200"/>
                    <a:ext cx="376056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5257800" y="1600200"/>
            <a:ext cx="3429000" cy="2286000"/>
          </a:xfrm>
          <a:prstGeom prst="cloudCallout">
            <a:avLst>
              <a:gd name="adj1" fmla="val -95925"/>
              <a:gd name="adj2" fmla="val 80624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1320" y="1981080"/>
            <a:ext cx="2286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ing challen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ounting for similar vs. opposite prefer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743040" y="2133720"/>
            <a:ext cx="778356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ook Antiqua"/>
              </a:rPr>
              <a:t>Model Review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(In Exce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743040" y="2133720"/>
            <a:ext cx="778356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ook Antiqua"/>
              </a:rPr>
              <a:t>Q&amp;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3040" y="2133720"/>
            <a:ext cx="7783560" cy="35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tchmaking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cess &amp; Population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view of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&amp;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43040" y="2133720"/>
            <a:ext cx="778356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tchmaking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arget Audience: Students in Decision Models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o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43080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nd best match for an indiv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43080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ptimize satisfaction for matching ALL students in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743040" y="2133720"/>
            <a:ext cx="778356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ook Antiqua"/>
              </a:rPr>
              <a:t>Result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est Matches…</a:t>
            </a: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(overall)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343160" cy="18288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2120760" y="1447920"/>
            <a:ext cx="1308240" cy="178272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901800" y="3048120"/>
            <a:ext cx="2293920" cy="914400"/>
          </a:xfrm>
          <a:custGeom>
            <a:avLst/>
            <a:gdLst>
              <a:gd name="textAreaLeft" fmla="*/ 573480 w 2293920"/>
              <a:gd name="textAreaRight" fmla="*/ 1720440 w 229392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Price Winner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700 poi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5257800" y="1503360"/>
            <a:ext cx="1380960" cy="17733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4"/>
          <a:stretch/>
        </p:blipFill>
        <p:spPr>
          <a:xfrm>
            <a:off x="6705720" y="1523880"/>
            <a:ext cx="1390680" cy="17827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5"/>
          <a:stretch/>
        </p:blipFill>
        <p:spPr>
          <a:xfrm>
            <a:off x="3200400" y="4094280"/>
            <a:ext cx="1376280" cy="17730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6"/>
          <a:stretch/>
        </p:blipFill>
        <p:spPr>
          <a:xfrm>
            <a:off x="4648320" y="4114800"/>
            <a:ext cx="1385640" cy="17827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3429000" y="5562720"/>
            <a:ext cx="2293920" cy="914400"/>
          </a:xfrm>
          <a:custGeom>
            <a:avLst/>
            <a:gdLst>
              <a:gd name="textAreaLeft" fmla="*/ 573480 w 2293920"/>
              <a:gd name="textAreaRight" fmla="*/ 1720440 w 229392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ffffff"/>
                </a:solidFill>
                <a:latin typeface="Arial"/>
              </a:rPr>
              <a:t>3rd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Price Winner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300 poi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62720" y="3048120"/>
            <a:ext cx="2293920" cy="914400"/>
          </a:xfrm>
          <a:custGeom>
            <a:avLst/>
            <a:gdLst>
              <a:gd name="textAreaLeft" fmla="*/ 573480 w 2293920"/>
              <a:gd name="textAreaRight" fmla="*/ 1720440 w 229392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nd Price Winner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300 poi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est Matches…</a:t>
            </a: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(Singles)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304920" y="2435400"/>
            <a:ext cx="8381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Matches for the whole class…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803680" y="1143000"/>
            <a:ext cx="3709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743040" y="2133720"/>
            <a:ext cx="778356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343080" indent="-34308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rocess &amp; Population Statistic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Process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57200" y="1752480"/>
            <a:ext cx="2057400" cy="1295640"/>
          </a:xfrm>
          <a:prstGeom prst="flowChartAlternateProcess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1905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ey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90920" y="2362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52680" y="1752480"/>
            <a:ext cx="1981440" cy="1371600"/>
          </a:xfrm>
          <a:prstGeom prst="flowChartMultidocumen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05320" y="20574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ey Fill O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248520" y="1752480"/>
            <a:ext cx="1904760" cy="1295640"/>
          </a:xfrm>
          <a:prstGeom prst="flowChartPunchedCard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410080" y="23623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477120" y="19051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E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324480" y="4038480"/>
            <a:ext cx="1905120" cy="1447920"/>
          </a:xfrm>
          <a:prstGeom prst="flowChartPunchedTap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315200" y="32004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248520" y="44197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Analysis and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200400" y="5181480"/>
            <a:ext cx="26668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3276720" y="396252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3276720" y="50292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9480" y="3657600"/>
            <a:ext cx="2210040" cy="685800"/>
          </a:xfrm>
          <a:prstGeom prst="flowChartMagneticTap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1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9480" y="4572000"/>
            <a:ext cx="2210040" cy="685800"/>
          </a:xfrm>
          <a:prstGeom prst="flowChartMagneticTap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1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5562720"/>
            <a:ext cx="2210040" cy="685800"/>
          </a:xfrm>
          <a:prstGeom prst="flowChartMagneticTap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19:47:26Z</dcterms:created>
  <dc:creator>Stern School of Business</dc:creator>
  <dc:description/>
  <dc:language>en-US</dc:language>
  <cp:lastModifiedBy>Stern School Of Business</cp:lastModifiedBy>
  <dcterms:modified xsi:type="dcterms:W3CDTF">2004-04-26T12:56:45Z</dcterms:modified>
  <cp:revision>27</cp:revision>
  <dc:subject/>
  <dc:title>The D.M. Matching Team…  FIND YOUR SOLE/SOUL MATE?!</dc:title>
</cp:coreProperties>
</file>